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F6F9-5FD4-4EC4-AC10-2807CD3A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C840-3B2E-41DF-8DB2-78E9BE42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33F-A598-4AC8-9D7E-1C9C5C4F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B54-A120-4523-884C-BED3BBA4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1C1F-89D2-4531-9911-2E6901F8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AE84-514E-4B3E-99BA-044C5379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DEF4-191C-409C-88A2-651B8B41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837F-DC11-4A46-8EDF-E1863E52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F8C8-D608-4393-A96E-9EF791F6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339E-7F64-4432-B8F9-EE2FB4EC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EC2A-3EAC-413D-A7A7-553C2739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C9C-DBEA-495B-BFAD-64C2D329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2687-F5BF-4FEC-81BC-2F90AF33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2AB0-CFAA-4970-90AB-9C8F7A6D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522B-E12A-4457-87E7-5665BEE0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8779-5811-40C8-B1B0-E08B5830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A974-5C50-4555-A37E-1F546365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CF2-61D4-4F79-A596-8A9915CE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CFC-F8D8-4926-B083-FCCBEC44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DBB-489F-450A-8C4F-BC45171D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B20-ED29-469F-AC6B-F9ED2524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7B6-C125-4B5F-A764-E4D0A43F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9A0-54FA-4983-89B4-A41926FF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080B-7D6F-4C7D-94BF-DDC13B14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DBA4-E5DD-432D-A160-C5D1175422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D6B6-76C0-4D51-A028-23D7A4C409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ifferencebetween.net/science/difference-between-organic-and-inorganic-compounds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82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83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Bio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84" name="Picture 8" descr="C:\Users\Liz\AppData\Local\Microsoft\Windows\Temporary Internet Files\Content.IE5\CPHVRLKO\MCj02296450000[1].wmf"/>
          <p:cNvPicPr/>
          <p:nvPr/>
        </p:nvPicPr>
        <p:blipFill>
          <a:blip r:embed="rId3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 organic or inorganic compound?  Explain your answ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>
            <a:hlinkClick r:id="rId2"/>
          </p:cNvPr>
          <p:cNvSpPr/>
          <p:nvPr/>
        </p:nvSpPr>
        <p:spPr>
          <a:xfrm>
            <a:off x="3581280" y="3276720"/>
            <a:ext cx="1067040" cy="990360"/>
          </a:xfrm>
          <a:custGeom>
            <a:avLst/>
            <a:gdLst>
              <a:gd name="textAreaLeft" fmla="*/ 64080 w 1067040"/>
              <a:gd name="textAreaRight" fmla="*/ 1002960 w 10670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3272" h="21600">
                <a:moveTo>
                  <a:pt x="0" y="0"/>
                </a:moveTo>
                <a:lnTo>
                  <a:pt x="23272" y="0"/>
                </a:lnTo>
                <a:lnTo>
                  <a:pt x="23272" y="21600"/>
                </a:lnTo>
                <a:lnTo>
                  <a:pt x="0" y="21600"/>
                </a:lnTo>
                <a:close/>
              </a:path>
              <a:path fill="lightenLess" w="23272" h="21600">
                <a:moveTo>
                  <a:pt x="0" y="0"/>
                </a:moveTo>
                <a:lnTo>
                  <a:pt x="23272" y="0"/>
                </a:lnTo>
                <a:lnTo>
                  <a:pt x="21872" y="1400"/>
                </a:lnTo>
                <a:lnTo>
                  <a:pt x="1400" y="1400"/>
                </a:lnTo>
                <a:close/>
              </a:path>
              <a:path fill="darken" w="23272" h="21600">
                <a:moveTo>
                  <a:pt x="23272" y="0"/>
                </a:moveTo>
                <a:lnTo>
                  <a:pt x="23272" y="21600"/>
                </a:lnTo>
                <a:lnTo>
                  <a:pt x="21872" y="20200"/>
                </a:lnTo>
                <a:lnTo>
                  <a:pt x="21872" y="1400"/>
                </a:lnTo>
                <a:close/>
              </a:path>
              <a:path fill="darkenLess" w="23272" h="21600">
                <a:moveTo>
                  <a:pt x="2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72" y="20200"/>
                </a:lnTo>
                <a:close/>
              </a:path>
              <a:path fill="lighten" w="2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72" h="21600">
                <a:moveTo>
                  <a:pt x="1163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272" h="21600">
                <a:moveTo>
                  <a:pt x="1163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272" h="21600">
                <a:moveTo>
                  <a:pt x="9060" y="8224"/>
                </a:moveTo>
                <a:lnTo>
                  <a:pt x="12924" y="8224"/>
                </a:lnTo>
                <a:lnTo>
                  <a:pt x="12924" y="15221"/>
                </a:lnTo>
                <a:lnTo>
                  <a:pt x="14212" y="15221"/>
                </a:lnTo>
                <a:lnTo>
                  <a:pt x="14212" y="16144"/>
                </a:lnTo>
                <a:lnTo>
                  <a:pt x="9060" y="16144"/>
                </a:lnTo>
                <a:lnTo>
                  <a:pt x="9060" y="15221"/>
                </a:lnTo>
                <a:lnTo>
                  <a:pt x="10348" y="15221"/>
                </a:lnTo>
                <a:lnTo>
                  <a:pt x="10348" y="9129"/>
                </a:lnTo>
                <a:lnTo>
                  <a:pt x="9060" y="912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3:16:22Z</dcterms:created>
  <dc:creator>PritchaJ</dc:creator>
  <dc:description/>
  <dc:language>en-US</dc:language>
  <cp:lastModifiedBy>PritchaJ</cp:lastModifiedBy>
  <dcterms:modified xsi:type="dcterms:W3CDTF">2011-06-01T13:22:09Z</dcterms:modified>
  <cp:revision>1</cp:revision>
  <dc:subject/>
  <dc:title>Slide 1</dc:title>
</cp:coreProperties>
</file>